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ADF9-DF7D-4500-9089-B65B9ECF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4D7-E086-47AB-A485-A6FFD588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93C-4A54-4B51-9493-57BDD31D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8F1-11FB-4FE6-BB44-4A0CDE5C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E328-5A49-4A57-A534-02AC0291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CA23-9E6F-43EA-B500-EE42CA91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4DE9-751E-4FC7-9F83-4C068FDE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EDF3-5655-4BFB-AFF9-93C53593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57E4-3608-4731-9926-424E67AE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387E-CCA8-417B-8C17-DC1C2F14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EAB8-585C-47C9-ACEA-242D8ADF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B31-B362-40C0-B2EA-AF600D49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95FA-1D4D-4A20-8EEB-8B80CFE7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8014-0C30-4036-AA78-A07C089E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14D1-AB90-4CAE-B00E-2D79F274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AAB0-887F-4C1E-9EF5-D62A6250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299B-F0F3-4BF4-B416-819DB96E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029-4E6E-48B5-A86C-3C9005E3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B86-189D-4C66-B52C-78BD21DC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6D8-74AA-4695-9638-2D60B555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D89-03D0-4001-8124-EB8E2DFF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06C-EF9C-4803-9254-EBEC02E9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606-EF6C-4830-91DD-21696292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C38-248F-4636-927C-EF729EF6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C6B9-4B6C-4FB2-A721-4D5CFBC134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60EC-7322-4A97-B4BE-CE2E765766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 е н о о б р а з о в а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380880"/>
            <a:ext cx="792504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-4397760" y="3643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990720" y="1828800"/>
            <a:ext cx="7219440" cy="3030840"/>
            <a:chOff x="990720" y="1828800"/>
            <a:chExt cx="7219440" cy="3030840"/>
          </a:xfrm>
        </p:grpSpPr>
        <p:grpSp>
          <p:nvGrpSpPr>
            <p:cNvPr id="430" name=""/>
            <p:cNvGrpSpPr/>
            <p:nvPr/>
          </p:nvGrpSpPr>
          <p:grpSpPr>
            <a:xfrm>
              <a:off x="1870920" y="1828800"/>
              <a:ext cx="1819440" cy="2462400"/>
              <a:chOff x="1870920" y="1828800"/>
              <a:chExt cx="1819440" cy="2462400"/>
            </a:xfrm>
          </p:grpSpPr>
          <p:sp>
            <p:nvSpPr>
              <p:cNvPr id="431" name=""/>
              <p:cNvSpPr/>
              <p:nvPr/>
            </p:nvSpPr>
            <p:spPr>
              <a:xfrm>
                <a:off x="2834280" y="1828800"/>
                <a:ext cx="855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воздух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620440" y="2149920"/>
                <a:ext cx="321120" cy="171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978200" y="3862800"/>
                <a:ext cx="1605600" cy="321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727720" y="3327840"/>
                <a:ext cx="106560" cy="10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727720" y="3541680"/>
                <a:ext cx="10584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727720" y="3755520"/>
                <a:ext cx="1065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727720" y="3970080"/>
                <a:ext cx="10584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941560" y="3970080"/>
                <a:ext cx="1065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55400" y="3970080"/>
                <a:ext cx="106560" cy="107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13160" y="3970080"/>
                <a:ext cx="10584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299320" y="3970080"/>
                <a:ext cx="1065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369240" y="3970080"/>
                <a:ext cx="1065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085480" y="3970080"/>
                <a:ext cx="10584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870920" y="2363760"/>
                <a:ext cx="74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870920" y="2363760"/>
                <a:ext cx="0" cy="192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870920" y="4291200"/>
                <a:ext cx="181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690360" y="2363760"/>
                <a:ext cx="0" cy="192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41560" y="2363760"/>
                <a:ext cx="74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834280" y="1828800"/>
                <a:ext cx="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870920" y="2684880"/>
                <a:ext cx="74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941560" y="2684880"/>
                <a:ext cx="74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085480" y="289944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99320" y="311328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978200" y="3327840"/>
                <a:ext cx="32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192040" y="3541680"/>
                <a:ext cx="3211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085480" y="37555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55400" y="2792160"/>
                <a:ext cx="32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8120" y="30056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262680" y="322056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48120" y="3434400"/>
                <a:ext cx="32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262680" y="3648960"/>
                <a:ext cx="32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096960" y="2004480"/>
              <a:ext cx="2113200" cy="2855160"/>
              <a:chOff x="6096960" y="2004480"/>
              <a:chExt cx="2113200" cy="2855160"/>
            </a:xfrm>
          </p:grpSpPr>
          <p:sp>
            <p:nvSpPr>
              <p:cNvPr id="463" name=""/>
              <p:cNvSpPr/>
              <p:nvPr/>
            </p:nvSpPr>
            <p:spPr>
              <a:xfrm rot="1426800">
                <a:off x="7011720" y="3067200"/>
                <a:ext cx="528120" cy="527760"/>
              </a:xfrm>
              <a:prstGeom prst="hexagon">
                <a:avLst>
                  <a:gd name="adj" fmla="val 2501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0800000">
                <a:off x="6096960" y="2004480"/>
                <a:ext cx="2112840" cy="1760400"/>
              </a:xfrm>
              <a:prstGeom prst="blockArc">
                <a:avLst>
                  <a:gd name="adj1" fmla="val 10870342"/>
                  <a:gd name="adj2" fmla="val 21529658"/>
                  <a:gd name="adj3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097320" y="2883960"/>
                <a:ext cx="2112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53560" y="3764880"/>
                <a:ext cx="1080" cy="35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7153200" y="2004480"/>
                <a:ext cx="704520" cy="158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9296000">
                <a:off x="6773040" y="4012200"/>
                <a:ext cx="702720" cy="70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20637600">
                <a:off x="7209360" y="2220840"/>
                <a:ext cx="702720" cy="70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990720" y="3869640"/>
              <a:ext cx="528120" cy="6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16760" y="3765960"/>
              <a:ext cx="528120" cy="6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1523880" y="4937040"/>
            <a:ext cx="648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– пневматический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 – взбивальный аппара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ппараты для пено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 с е в д о о ж и ж е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80880"/>
            <a:ext cx="792504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-4397760" y="3643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106668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цесс псевдоожижения (кипящий слой) применяется при сушке сыпучих материалов. Например, зер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х с определенной скоростью, обеспечивающей нахождение материала во взвешенном состоянии, подается через отверстия в поде ка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914400" y="2819520"/>
            <a:ext cx="7615080" cy="2638080"/>
            <a:chOff x="914400" y="2819520"/>
            <a:chExt cx="7615080" cy="263808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2819520"/>
              <a:ext cx="4108320" cy="2638080"/>
              <a:chOff x="914400" y="2819520"/>
              <a:chExt cx="4108320" cy="263808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914400" y="2819520"/>
                <a:ext cx="4108320" cy="1743840"/>
                <a:chOff x="914400" y="2819520"/>
                <a:chExt cx="4108320" cy="17438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914400" y="2943360"/>
                  <a:ext cx="0" cy="161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035080" y="2943360"/>
                  <a:ext cx="0" cy="161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914400" y="4064040"/>
                  <a:ext cx="1120680" cy="1249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1162800" y="431316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V="1">
                  <a:off x="1412280" y="431316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1661040" y="431316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128808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53684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408040" y="2943360"/>
                  <a:ext cx="0" cy="161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528720" y="2943360"/>
                  <a:ext cx="0" cy="161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408040" y="4064760"/>
                  <a:ext cx="1120680" cy="1249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265644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290628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315504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278208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303048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901680" y="2943360"/>
                  <a:ext cx="0" cy="161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22720" y="2943360"/>
                  <a:ext cx="0" cy="161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901680" y="4064760"/>
                  <a:ext cx="1120680" cy="12492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415044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V="1">
                  <a:off x="439992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464868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427572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V="1">
                  <a:off x="452448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532240" y="3566160"/>
                  <a:ext cx="12492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404520" y="3566160"/>
                  <a:ext cx="12492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030480" y="38156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906280" y="356616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532240" y="3815640"/>
                  <a:ext cx="124920" cy="126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9240" y="3690360"/>
                  <a:ext cx="12384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404520" y="38156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782080" y="3690360"/>
                  <a:ext cx="12204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155040" y="3566160"/>
                  <a:ext cx="12564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914400" y="39398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62800" y="39398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412280" y="3939840"/>
                  <a:ext cx="12492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661040" y="39398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909800" y="3939840"/>
                  <a:ext cx="12600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785600" y="3815640"/>
                  <a:ext cx="12564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536840" y="38156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038600" y="3815640"/>
                  <a:ext cx="1267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288080" y="3815640"/>
                  <a:ext cx="12528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026240" y="38156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408040" y="3690360"/>
                  <a:ext cx="12420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026240" y="344196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275720" y="3068640"/>
                  <a:ext cx="12492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026240" y="2943360"/>
                  <a:ext cx="124920" cy="126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399920" y="3566160"/>
                  <a:ext cx="12528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524480" y="294336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48680" y="3815640"/>
                  <a:ext cx="12420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773960" y="3317040"/>
                  <a:ext cx="12420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773960" y="2819520"/>
                  <a:ext cx="12420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1069560" y="4835520"/>
                <a:ext cx="3886920" cy="62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неподвижный          кипящий                    унос                                                             слой                          слой (КС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5733720" y="2819520"/>
              <a:ext cx="2795760" cy="2098440"/>
              <a:chOff x="5733720" y="2819520"/>
              <a:chExt cx="2795760" cy="2098440"/>
            </a:xfrm>
          </p:grpSpPr>
          <p:sp>
            <p:nvSpPr>
              <p:cNvPr id="539" name=""/>
              <p:cNvSpPr/>
              <p:nvPr/>
            </p:nvSpPr>
            <p:spPr>
              <a:xfrm>
                <a:off x="8109720" y="4496760"/>
                <a:ext cx="419760" cy="4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70920" y="4496760"/>
                <a:ext cx="5583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кр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153120" y="4496760"/>
                <a:ext cx="55836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кр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733720" y="2819520"/>
                <a:ext cx="41868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12720" y="2819520"/>
                <a:ext cx="1080" cy="167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2720" y="4496760"/>
                <a:ext cx="23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12720" y="3937320"/>
                <a:ext cx="41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6432480" y="3797640"/>
                <a:ext cx="111780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7550280" y="3238560"/>
                <a:ext cx="559080" cy="55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432480" y="3937320"/>
                <a:ext cx="0" cy="55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50280" y="3798000"/>
                <a:ext cx="0" cy="69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 с е в д о о ж и ж е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9480" y="380880"/>
            <a:ext cx="792504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-4397760" y="3643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-4535640" y="25225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733920" y="3048120"/>
                <a:ext cx="22320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М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Г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371600" y="3733920"/>
                <a:ext cx="1903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00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057400" y="4724280"/>
                <a:ext cx="468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 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"/>
          <p:cNvSpPr/>
          <p:nvPr/>
        </p:nvSpPr>
        <p:spPr>
          <a:xfrm>
            <a:off x="380880" y="1252800"/>
            <a:ext cx="82346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 скорость подачи воздуха меньше первой критическо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кр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 то слой материала неподвижен, если больш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кр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 то материал уносится из камеры. Процесс проводят при скорости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 имеющей значение между первой и второй критической, которую определяют из уравне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" y="2161080"/>
            <a:ext cx="784872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= К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п 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кр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,   где К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п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≥ 2 – число псевдоожиж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вую критическую скорость находят по уравнению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кр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굴림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Re, Ar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16200" y="3733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39160" y="48006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3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57596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МЕХАНИЧЕСКИЕ ПРОЦЕС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арактеристика дисперсных сист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меши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перг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нообразование и псевдоожиж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Х а р а к т е р и с т и к а  д и с п е р с н ы х  с и с т е 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80880"/>
            <a:ext cx="7925040" cy="533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236960"/>
            <a:ext cx="8153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 жидкостные системы делятся на гомо- и гетероген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моген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это чистая жидкость или раств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тероген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дисперсные) – состоят не менее, чем из двух компонентов или фаз. Фазы делятся н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дисперсную (внутренняя) – мелкие частицы вещест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дисперсионную среду (внешняя) – жидкость или г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терогенные системы могут бы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дно- и многокомпонентными (в молоке две дисперсные фазы – жир и белок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монодисперсные (если у частиц одинаковые размеры) и  полидисперсные (разны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зависимости от агрегатного состояния фаз гетерогенные системы деля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эмульсии – жидкость плюс жидкость (молоко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суспензии – жидкость плюс твердое вещество (соус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пены – жидкость плюс пузырьки газа (крем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аэрозоли – газ плюс твердые вещества (дым, пыль), газ плюс жидкость (туман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Х а р а к т е р и с т и к а  д и с п е р с н ы х  с и с т е 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380880"/>
            <a:ext cx="7925040" cy="38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91440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рактеристики сис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персность систем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дельная поверхность частиц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ий диаметр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характеристики распределения частиц используют табличные, графические и математические мет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886200" y="1143000"/>
                <a:ext cx="5335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724280" y="1447920"/>
                <a:ext cx="8002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19520" y="1828800"/>
                <a:ext cx="1523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533520" y="3200400"/>
          <a:ext cx="2133360" cy="1639800"/>
        </p:xfrm>
        <a:graphic>
          <a:graphicData uri="http://schemas.openxmlformats.org/drawingml/2006/table">
            <a:tbl>
              <a:tblPr/>
              <a:tblGrid>
                <a:gridCol w="965160"/>
                <a:gridCol w="1168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мер, м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,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–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–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– 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– 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18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3809880" y="3276360"/>
            <a:ext cx="1600200" cy="1600560"/>
            <a:chOff x="3809880" y="3276360"/>
            <a:chExt cx="1600200" cy="1600560"/>
          </a:xfrm>
        </p:grpSpPr>
        <p:sp>
          <p:nvSpPr>
            <p:cNvPr id="123" name=""/>
            <p:cNvSpPr/>
            <p:nvPr/>
          </p:nvSpPr>
          <p:spPr>
            <a:xfrm>
              <a:off x="5110200" y="4534200"/>
              <a:ext cx="299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3276720"/>
              <a:ext cx="299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4109400" y="3276360"/>
              <a:ext cx="360" cy="12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09760" y="4534200"/>
              <a:ext cx="1300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10200" y="3848040"/>
              <a:ext cx="200520" cy="68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10000" y="3504600"/>
              <a:ext cx="201240" cy="103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09800" y="3733560"/>
              <a:ext cx="19980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9960" y="3962160"/>
              <a:ext cx="200520" cy="57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248520" y="3200040"/>
            <a:ext cx="1600200" cy="1596960"/>
            <a:chOff x="6248520" y="3200040"/>
            <a:chExt cx="1600200" cy="1596960"/>
          </a:xfrm>
        </p:grpSpPr>
        <p:sp>
          <p:nvSpPr>
            <p:cNvPr id="132" name=""/>
            <p:cNvSpPr/>
            <p:nvPr/>
          </p:nvSpPr>
          <p:spPr>
            <a:xfrm>
              <a:off x="7548480" y="4456440"/>
              <a:ext cx="3002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8520" y="3200400"/>
              <a:ext cx="29988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548400" y="3200040"/>
              <a:ext cx="1440" cy="125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48400" y="4456440"/>
              <a:ext cx="1299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48480" y="3523680"/>
              <a:ext cx="900000" cy="475200"/>
            </a:xfrm>
            <a:custGeom>
              <a:avLst/>
              <a:gdLst/>
              <a:ahLst/>
              <a:rect l="l" t="t" r="r" b="b"/>
              <a:pathLst>
                <a:path w="1620" h="750">
                  <a:moveTo>
                    <a:pt x="0" y="750"/>
                  </a:moveTo>
                  <a:cubicBezTo>
                    <a:pt x="225" y="405"/>
                    <a:pt x="450" y="60"/>
                    <a:pt x="720" y="30"/>
                  </a:cubicBezTo>
                  <a:cubicBezTo>
                    <a:pt x="990" y="0"/>
                    <a:pt x="1470" y="480"/>
                    <a:pt x="1620" y="5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04920" y="502920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пример, распределение частиц в молоке описывается зависимостью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295280" y="5715000"/>
                <a:ext cx="1143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724280" y="4846320"/>
            <a:ext cx="388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одержание частиц заданного размера рассчитывают по массе (1), объему (2), количеству (3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962520" y="5807160"/>
                <a:ext cx="41907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 е р е м е ш и в а н и е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 и с п е р с н ы х  с и с т е 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80880"/>
            <a:ext cx="7925040" cy="38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203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мешивание необходимо для получения однородной или неоднородной жидк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мешивание дели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механическое – в мешалк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4382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пневматические – через слой жидкости прокачивают воздух, применяются при замачивании и мойке зерна и круп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 циркуляционные – для получения эмульсий и суспенз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в потоке при турбулизации или турбулизационные – когда жидкости хорошо растворяются друг в дру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990720" y="3962520"/>
                <a:ext cx="8744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819520" y="3962520"/>
                <a:ext cx="8524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d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952880" y="3962520"/>
                <a:ext cx="19828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ρ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52880" y="4724280"/>
                <a:ext cx="7272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у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429000" y="5410080"/>
                <a:ext cx="2039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38080" y="449388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очные характеристик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тенсивность перемешива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6080" y="5486040"/>
            <a:ext cx="26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тепень перемешива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541116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число проб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относительная концентрация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понентов в проб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4200" y="4900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с-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 е р е м е ш и в а н и е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 и с п е р с н ы х  с и с т е 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80880"/>
            <a:ext cx="7925040" cy="38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71600" y="1523880"/>
            <a:ext cx="6593400" cy="1355760"/>
            <a:chOff x="1371600" y="1523880"/>
            <a:chExt cx="6593400" cy="1355760"/>
          </a:xfrm>
        </p:grpSpPr>
        <p:grpSp>
          <p:nvGrpSpPr>
            <p:cNvPr id="174" name=""/>
            <p:cNvGrpSpPr/>
            <p:nvPr/>
          </p:nvGrpSpPr>
          <p:grpSpPr>
            <a:xfrm>
              <a:off x="1371600" y="1690560"/>
              <a:ext cx="571680" cy="1000080"/>
              <a:chOff x="1371600" y="1690560"/>
              <a:chExt cx="571680" cy="1000080"/>
            </a:xfrm>
          </p:grpSpPr>
          <p:sp>
            <p:nvSpPr>
              <p:cNvPr id="175" name=""/>
              <p:cNvSpPr/>
              <p:nvPr/>
            </p:nvSpPr>
            <p:spPr>
              <a:xfrm>
                <a:off x="1657080" y="1690560"/>
                <a:ext cx="0" cy="85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71600" y="2547720"/>
                <a:ext cx="571680" cy="14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243160" y="1690560"/>
              <a:ext cx="830160" cy="1051920"/>
              <a:chOff x="2243160" y="1690560"/>
              <a:chExt cx="830160" cy="1051920"/>
            </a:xfrm>
          </p:grpSpPr>
          <p:sp>
            <p:nvSpPr>
              <p:cNvPr id="178" name=""/>
              <p:cNvSpPr/>
              <p:nvPr/>
            </p:nvSpPr>
            <p:spPr>
              <a:xfrm rot="1690800">
                <a:off x="2228400" y="2404800"/>
                <a:ext cx="858960" cy="14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9979400">
                <a:off x="2228760" y="2404800"/>
                <a:ext cx="858960" cy="14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2658240" y="1690560"/>
                <a:ext cx="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230640" y="1833480"/>
              <a:ext cx="857160" cy="714240"/>
              <a:chOff x="3230640" y="1833480"/>
              <a:chExt cx="857160" cy="714240"/>
            </a:xfrm>
          </p:grpSpPr>
          <p:sp>
            <p:nvSpPr>
              <p:cNvPr id="182" name=""/>
              <p:cNvSpPr/>
              <p:nvPr/>
            </p:nvSpPr>
            <p:spPr>
              <a:xfrm>
                <a:off x="3230640" y="2405160"/>
                <a:ext cx="428760" cy="142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59400" y="2405160"/>
                <a:ext cx="428400" cy="142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3659400" y="1833480"/>
                <a:ext cx="0" cy="57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30720" y="1833480"/>
              <a:ext cx="856800" cy="857160"/>
              <a:chOff x="4230720" y="1833480"/>
              <a:chExt cx="856800" cy="857160"/>
            </a:xfrm>
          </p:grpSpPr>
          <p:sp>
            <p:nvSpPr>
              <p:cNvPr id="186" name=""/>
              <p:cNvSpPr/>
              <p:nvPr/>
            </p:nvSpPr>
            <p:spPr>
              <a:xfrm>
                <a:off x="4230720" y="2404800"/>
                <a:ext cx="142920" cy="285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44960" y="2404800"/>
                <a:ext cx="142560" cy="285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73640" y="25477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659120" y="1833480"/>
                <a:ext cx="0" cy="71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373720" y="1690560"/>
              <a:ext cx="571320" cy="1000080"/>
              <a:chOff x="5373720" y="1690560"/>
              <a:chExt cx="571320" cy="1000080"/>
            </a:xfrm>
          </p:grpSpPr>
          <p:sp>
            <p:nvSpPr>
              <p:cNvPr id="191" name=""/>
              <p:cNvSpPr/>
              <p:nvPr/>
            </p:nvSpPr>
            <p:spPr>
              <a:xfrm>
                <a:off x="5373720" y="2119320"/>
                <a:ext cx="571320" cy="57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73720" y="240480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5659200" y="1690560"/>
                <a:ext cx="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118200" y="1779840"/>
              <a:ext cx="1029240" cy="1099800"/>
              <a:chOff x="6118200" y="1779840"/>
              <a:chExt cx="1029240" cy="1099800"/>
            </a:xfrm>
          </p:grpSpPr>
          <p:sp>
            <p:nvSpPr>
              <p:cNvPr id="195" name=""/>
              <p:cNvSpPr/>
              <p:nvPr/>
            </p:nvSpPr>
            <p:spPr>
              <a:xfrm rot="4713600">
                <a:off x="6158520" y="1900440"/>
                <a:ext cx="948240" cy="85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901" y="38"/>
                    </a:moveTo>
                    <a:arcTo wR="10800" hR="10800" stAng="-5686594" swAng="124785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901" y="38"/>
                    </a:moveTo>
                    <a:arcTo wR="10800" hR="10800" stAng="-5686594" swAng="1247850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30880" y="2404800"/>
                <a:ext cx="85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6660000" y="1833480"/>
                <a:ext cx="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375680" y="1523880"/>
              <a:ext cx="589320" cy="1285920"/>
              <a:chOff x="7375680" y="1523880"/>
              <a:chExt cx="589320" cy="1285920"/>
            </a:xfrm>
          </p:grpSpPr>
          <p:sp>
            <p:nvSpPr>
              <p:cNvPr id="199" name=""/>
              <p:cNvSpPr/>
              <p:nvPr/>
            </p:nvSpPr>
            <p:spPr>
              <a:xfrm rot="11100600">
                <a:off x="7661160" y="2094840"/>
                <a:ext cx="285480" cy="42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75680" y="252396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375680" y="1666800"/>
                <a:ext cx="285840" cy="42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61520" y="1523880"/>
                <a:ext cx="0" cy="128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533520" y="3429000"/>
            <a:ext cx="8118000" cy="2558880"/>
            <a:chOff x="533520" y="3429000"/>
            <a:chExt cx="8118000" cy="2558880"/>
          </a:xfrm>
        </p:grpSpPr>
        <p:pic>
          <p:nvPicPr>
            <p:cNvPr id="204" name="" descr=""/>
            <p:cNvPicPr/>
            <p:nvPr/>
          </p:nvPicPr>
          <p:blipFill>
            <a:blip r:embed="rId1">
              <a:biLevel thresh="50000"/>
              <a:alphaModFix amt="0"/>
            </a:blip>
            <a:srcRect l="22416" t="0" r="0" b="0"/>
            <a:stretch/>
          </p:blipFill>
          <p:spPr>
            <a:xfrm>
              <a:off x="1371600" y="3429000"/>
              <a:ext cx="1882800" cy="20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581280" y="4067280"/>
              <a:ext cx="1498680" cy="1033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81280" y="3809880"/>
              <a:ext cx="1498680" cy="2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79960" y="497196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3200" y="4842000"/>
              <a:ext cx="2728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489640" y="4195440"/>
              <a:ext cx="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079960" y="4195800"/>
              <a:ext cx="4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33520" y="4267080"/>
              <a:ext cx="817560" cy="515880"/>
              <a:chOff x="533520" y="4267080"/>
              <a:chExt cx="817560" cy="515880"/>
            </a:xfrm>
          </p:grpSpPr>
          <p:sp>
            <p:nvSpPr>
              <p:cNvPr id="212" name=""/>
              <p:cNvSpPr/>
              <p:nvPr/>
            </p:nvSpPr>
            <p:spPr>
              <a:xfrm>
                <a:off x="533520" y="4782960"/>
                <a:ext cx="40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3520" y="4267080"/>
                <a:ext cx="81756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воздух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1928880" y="5595840"/>
              <a:ext cx="4078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35440" y="5595840"/>
              <a:ext cx="4078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88120" y="5595840"/>
              <a:ext cx="4078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5791320" y="3809880"/>
              <a:ext cx="2860200" cy="1547640"/>
              <a:chOff x="5791320" y="3809880"/>
              <a:chExt cx="2860200" cy="1547640"/>
            </a:xfrm>
          </p:grpSpPr>
          <p:sp>
            <p:nvSpPr>
              <p:cNvPr id="218" name=""/>
              <p:cNvSpPr/>
              <p:nvPr/>
            </p:nvSpPr>
            <p:spPr>
              <a:xfrm>
                <a:off x="5927400" y="4067640"/>
                <a:ext cx="0" cy="103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91320" y="4067640"/>
                <a:ext cx="54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199920" y="406764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199920" y="4325760"/>
                <a:ext cx="149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91320" y="5099760"/>
                <a:ext cx="54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199920" y="484164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199920" y="4841640"/>
                <a:ext cx="149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98240" y="4325760"/>
                <a:ext cx="0" cy="51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7698240" y="4712760"/>
                <a:ext cx="27216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98240" y="4325760"/>
                <a:ext cx="27216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70760" y="445464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70760" y="4454640"/>
                <a:ext cx="27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70760" y="4712760"/>
                <a:ext cx="27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243280" y="4325760"/>
                <a:ext cx="0" cy="51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79360" y="4583880"/>
                <a:ext cx="27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63480" y="38098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6063480" y="509976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99920" y="432576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6472440" y="45838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44600" y="432576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7017120" y="45838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89640" y="432576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562160" y="45838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 И С П Е Р Г И Р О В А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04920"/>
            <a:ext cx="792504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312560"/>
            <a:ext cx="8001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перг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пергирование – это измельчение жидкостей, газов, твердых веществ в жидкостях или жидкостей и твердых веществ в газах. Для устойчивости добавляют поверхностно активные вещества (ПА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пергирование дели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Эмульгирование (майонез получают в центробежном эмульсоре, размер жировых частиц  при этом составляет 8 – 10 мк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Гомогенизация – дальнейшее диспергирование эмульсий (молоко, сливки получают в гомогенизаторе, размер частиц 1 – 2 мкм и мене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Распыление жидкостей в газовую сред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1. Гидравлическ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2. Механическ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3. Пневматическ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. Электрическ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5. Ультразвуков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6. Пульсацион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 И С П Е Р Г И Р О В А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380880"/>
            <a:ext cx="792504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819520" y="1600200"/>
                <a:ext cx="1431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,8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219320" y="3048120"/>
                <a:ext cx="1170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СР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495680" y="3048120"/>
                <a:ext cx="10368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У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30480" y="1065600"/>
            <a:ext cx="678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гомогенизации средний диаметр частиц можно рассчитывать по формул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902960"/>
            <a:ext cx="8381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давление в М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распыливании жидкостей в газовую фазу определяют количество частиц (1) и их удельную поверхность (2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61760" y="3187800"/>
            <a:ext cx="7234200" cy="3292920"/>
            <a:chOff x="761760" y="3187800"/>
            <a:chExt cx="7234200" cy="3292920"/>
          </a:xfrm>
        </p:grpSpPr>
        <p:grpSp>
          <p:nvGrpSpPr>
            <p:cNvPr id="268" name=""/>
            <p:cNvGrpSpPr/>
            <p:nvPr/>
          </p:nvGrpSpPr>
          <p:grpSpPr>
            <a:xfrm>
              <a:off x="6538320" y="4038120"/>
              <a:ext cx="1457640" cy="1283040"/>
              <a:chOff x="6538320" y="4038120"/>
              <a:chExt cx="1457640" cy="1283040"/>
            </a:xfrm>
          </p:grpSpPr>
          <p:sp>
            <p:nvSpPr>
              <p:cNvPr id="269" name=""/>
              <p:cNvSpPr/>
              <p:nvPr/>
            </p:nvSpPr>
            <p:spPr>
              <a:xfrm>
                <a:off x="6953400" y="4519440"/>
                <a:ext cx="641520" cy="2404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93200" y="4599720"/>
                <a:ext cx="160200" cy="160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93200" y="4840200"/>
                <a:ext cx="400680" cy="1602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354440" y="4840200"/>
                <a:ext cx="400680" cy="1602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594920" y="4599720"/>
                <a:ext cx="160200" cy="1602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953400" y="5000760"/>
                <a:ext cx="240480" cy="1602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354440" y="5000760"/>
                <a:ext cx="240480" cy="1602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7274160" y="5000760"/>
                <a:ext cx="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7274160" y="4439160"/>
                <a:ext cx="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7194240" y="4358520"/>
                <a:ext cx="79920" cy="8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194240" y="4278960"/>
                <a:ext cx="16020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94240" y="4198680"/>
                <a:ext cx="160200" cy="8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7194240" y="4118400"/>
                <a:ext cx="79920" cy="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7274160" y="4038120"/>
                <a:ext cx="0" cy="8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75560" y="484020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6065600">
                <a:off x="6556680" y="483660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0590000">
                <a:off x="6547680" y="443448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5400000">
                <a:off x="7675200" y="4438800"/>
                <a:ext cx="319680" cy="32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3886200" y="4373640"/>
              <a:ext cx="365040" cy="54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68720" y="3916440"/>
              <a:ext cx="0" cy="10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94040" y="4098960"/>
              <a:ext cx="921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251240" y="4098600"/>
              <a:ext cx="921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94040" y="4098960"/>
              <a:ext cx="54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76560" y="501156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885840" y="5011560"/>
              <a:ext cx="903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59080" y="5011560"/>
              <a:ext cx="921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28624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86200" y="528624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6200" y="537696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51240" y="528624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701880" y="4921200"/>
              <a:ext cx="1843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51240" y="4921200"/>
              <a:ext cx="1825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01880" y="54687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33760" y="52862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611160" y="5468760"/>
              <a:ext cx="9036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519000" y="52862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68720" y="53769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0728200">
              <a:off x="3332880" y="5610960"/>
              <a:ext cx="1212120" cy="72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8292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829282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972600">
              <a:off x="3582720" y="3321720"/>
              <a:ext cx="1212120" cy="72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8292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82928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428640" y="5468760"/>
              <a:ext cx="1825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76560" y="391644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976200" y="4373640"/>
              <a:ext cx="18252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76560" y="4464000"/>
              <a:ext cx="18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976200" y="4556160"/>
              <a:ext cx="18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76560" y="4648320"/>
              <a:ext cx="18252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976200" y="4738680"/>
              <a:ext cx="18252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76560" y="4829040"/>
              <a:ext cx="18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33440" y="4648320"/>
              <a:ext cx="180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33440" y="48769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33440" y="4648320"/>
              <a:ext cx="12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3440" y="4991040"/>
              <a:ext cx="12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90920" y="46483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590920" y="487656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7920" y="4762440"/>
              <a:ext cx="112680" cy="1144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76520" y="4762440"/>
              <a:ext cx="114120" cy="1144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5120" y="4762440"/>
              <a:ext cx="114120" cy="1159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33720" y="4762440"/>
              <a:ext cx="114120" cy="1159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62320" y="4762440"/>
              <a:ext cx="114120" cy="1144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905120" y="430488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2019240" y="430488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4533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19240" y="4533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219320" y="453384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33440" y="5105520"/>
              <a:ext cx="571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05040" y="453384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990360" y="4991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104480" y="5105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19240" y="4991040"/>
              <a:ext cx="180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5120" y="499104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19240" y="5105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05120" y="53341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90640" y="430524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0512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61760" y="5334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90920" y="47624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218960" y="47624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1218960" y="48769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90920" y="48769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8975000">
              <a:off x="1613880" y="5176080"/>
              <a:ext cx="68544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14400" y="5410080"/>
              <a:ext cx="9144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эмульс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57400" y="3886200"/>
              <a:ext cx="10288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сходн. мат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0080" y="4375080"/>
              <a:ext cx="0" cy="10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33920" y="4557600"/>
              <a:ext cx="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54520" y="4557600"/>
              <a:ext cx="1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533920" y="4465440"/>
              <a:ext cx="604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94400" y="4465800"/>
              <a:ext cx="601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54520" y="50148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33920" y="5289480"/>
              <a:ext cx="6048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594040" y="5289480"/>
              <a:ext cx="601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10080" y="437508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0080" y="547380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78360" y="4375080"/>
              <a:ext cx="0" cy="10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5473800"/>
              <a:ext cx="1238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5654520" y="5473800"/>
              <a:ext cx="1238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33920" y="5656320"/>
              <a:ext cx="12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33920" y="565632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54520" y="565632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33920" y="5931000"/>
              <a:ext cx="12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410080" y="4190760"/>
              <a:ext cx="1238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54520" y="4191120"/>
              <a:ext cx="1238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33920" y="3916440"/>
              <a:ext cx="12060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591160" y="58240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5591160" y="380952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90720" y="4038480"/>
              <a:ext cx="342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71800" y="5638680"/>
              <a:ext cx="343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2880" y="5638680"/>
              <a:ext cx="343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26280" y="5562720"/>
              <a:ext cx="342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 е н о о б р а з о в а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880"/>
            <a:ext cx="792504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3520" y="1294920"/>
            <a:ext cx="8153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нообразованием получают коктейли, кремы, суфле, мороженое. Для придания устойчивости пены используют ПАВ – яичные и молочные белки, агар-агар, желати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952880" y="1905120"/>
                <a:ext cx="1386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Г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r>
                          <m:t xml:space="preserve">6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934320" y="2590920"/>
                <a:ext cx="1000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1958760" y="2057040"/>
            <a:ext cx="29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Газосодержание пены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1640" y="2666880"/>
            <a:ext cx="5999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N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личество пузыр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Удельная поверхность контакта газообразных и жидких фаз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048040" y="4076640"/>
            <a:ext cx="5647680" cy="2078640"/>
            <a:chOff x="2048040" y="4076640"/>
            <a:chExt cx="5647680" cy="2078640"/>
          </a:xfrm>
        </p:grpSpPr>
        <p:grpSp>
          <p:nvGrpSpPr>
            <p:cNvPr id="392" name=""/>
            <p:cNvGrpSpPr/>
            <p:nvPr/>
          </p:nvGrpSpPr>
          <p:grpSpPr>
            <a:xfrm>
              <a:off x="2048040" y="4235760"/>
              <a:ext cx="2648520" cy="1919520"/>
              <a:chOff x="2048040" y="4235760"/>
              <a:chExt cx="2648520" cy="1919520"/>
            </a:xfrm>
          </p:grpSpPr>
          <p:sp>
            <p:nvSpPr>
              <p:cNvPr id="393" name=""/>
              <p:cNvSpPr/>
              <p:nvPr/>
            </p:nvSpPr>
            <p:spPr>
              <a:xfrm>
                <a:off x="3420720" y="4693320"/>
                <a:ext cx="27324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η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602880" y="4967280"/>
                <a:ext cx="27432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ρ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23800" y="4510440"/>
                <a:ext cx="455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ср</a:t>
                </a: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imes New Roman"/>
                  </a:rPr>
                  <a:t>ή,ρ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688840" y="4419720"/>
                <a:ext cx="0" cy="12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689560" y="5699160"/>
                <a:ext cx="1643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6200000">
                <a:off x="3054600" y="4786200"/>
                <a:ext cx="1278720" cy="1459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5400000">
                <a:off x="2370600" y="4051080"/>
                <a:ext cx="1004760" cy="1650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164" y="262"/>
                    </a:moveTo>
                    <a:arcTo wR="10800" hR="10800" stAng="-4641341" swAng="4641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164" y="262"/>
                    </a:moveTo>
                    <a:arcTo wR="10800" hR="10800" stAng="-4641341" swAng="464134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0800000">
                <a:off x="2875320" y="4235760"/>
                <a:ext cx="1821240" cy="128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63" y="1"/>
                    </a:moveTo>
                    <a:arcTo wR="10800" hR="10800" stAng="-5348104" swAng="53868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63" y="1"/>
                    </a:moveTo>
                    <a:arcTo wR="10800" hR="10800" stAng="-5348104" swAng="5386808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872440" y="4693320"/>
                <a:ext cx="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85040" y="551628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85040" y="5242320"/>
                <a:ext cx="45720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ср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009240" y="5790240"/>
                <a:ext cx="150732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Концентрация ПАВ,%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295960" y="4076640"/>
              <a:ext cx="2399760" cy="1944360"/>
              <a:chOff x="5295960" y="4076640"/>
              <a:chExt cx="2399760" cy="1944360"/>
            </a:xfrm>
          </p:grpSpPr>
          <p:sp>
            <p:nvSpPr>
              <p:cNvPr id="406" name=""/>
              <p:cNvSpPr/>
              <p:nvPr/>
            </p:nvSpPr>
            <p:spPr>
              <a:xfrm>
                <a:off x="5295960" y="4419720"/>
                <a:ext cx="3423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ρ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639040" y="4533480"/>
                <a:ext cx="457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imes New Roman"/>
                  </a:rPr>
                  <a:t>ρ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н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5524560" y="4419360"/>
                <a:ext cx="720" cy="12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524560" y="5677200"/>
                <a:ext cx="182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0800000">
                <a:off x="5753160" y="4076640"/>
                <a:ext cx="182880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24560" y="476244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524560" y="54482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524560" y="5791320"/>
                <a:ext cx="21711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Продолжительность взбивания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553080" y="5219640"/>
                <a:ext cx="45720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imes New Roman"/>
                  </a:rPr>
                  <a:t>ρ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2209680" y="56761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52880" y="56761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838080" y="3351240"/>
            <a:ext cx="769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пенообразовании плотность и вязкость пены зависят от размера пузырьков (3.5А), который определяется составом и концентрацией ПАВ. При возрастании концентрации ПАВ размер пузырьков уменьшается (3.5Б), а вязкость и плотность пены увеличиваются. При взбивании плотность продукта уменьшается. Обычн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-4627440" y="3425760"/>
                <a:ext cx="11808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-4397760" y="3643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105520" y="4038480"/>
                <a:ext cx="11811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0-29T00:42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